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9964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6320" y="952560"/>
            <a:ext cx="6570720" cy="733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0            OMA-EXPENDITURE                29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15,185.43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23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$21,63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14,18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28,796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(100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320" y="4698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960" y="8369280"/>
            <a:ext cx="6465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457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000" y="74520"/>
            <a:ext cx="6684840" cy="970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 JOHN D.  256-54-9701                CPT   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COMPTROLLER         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ETING FOR FUNDING RESERVE CENT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ERNA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V CHICAGO, 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V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46.00             $   35.00        $  4.00          $  185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: This is an Obligation document since blocks 20,21,and 22 are filled in.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12007/N103 S09076  $ 35.00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12007/N103 S09076  $150.00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T. SHOLTO, MAJ USA, ADJ                                          TO 12-7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080" y="38098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520" y="86104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1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2320" y="385920"/>
            <a:ext cx="525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OBLIGATE NOT LATER THAN THE MONTH TRAVEL COMMENC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 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ODC  NUMBER 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 *     21T1  N103  2   WIL9701TT12007          3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 *     21T2  N103  2   WIL9701TT12007         15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17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1760" y="227160"/>
            <a:ext cx="654192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OR SUBVOUCHER  (Completed by typewriter, ink    10.    FOR DO USE ONLY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l point pen, not pencil)     DO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AD PRIVACY ACT STATEMENT PRIOR TO COMPLETING THIS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69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 NAME -FIRST NAME-INITIAL  GRADE/RANK   SS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, JOHN D.                 CPT      256-54-9701         SUB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MAILING ADDRESS (ZIP CODE)            DUTY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420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GAN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MPTROLLER OFFICE,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AVEL ORDERS (Paragraph, S.O. No. Issuing HQ)        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7  HQ FT STEWART, GA 31314 DTD  6 DEC**                   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OR TRAVEL PAYMENTS OR ADVANCE UNDER THESE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Amount, Dov No. Date, If none, so st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NE                                               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ITINERARY (Item 25 for Symbols)  2.     3. NBR      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LOCAL      PLACE           REA  COST   OF MEAL    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    TIME    (Home,Office,  MOD SON    OF   GOVT\OPN   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24HOUR) Base, City,ST) TVL STP  LODG.   /M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P                         ***          /DED       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R                     ***                                         COMPU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TUDENT NO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OR:        21T1    21T2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BLIG/AEE   35.00  150.00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URSED   35.00  141.00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JUST   $  0.00  ($9.00)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ASSUME THAT VOUCHER IS COMPLETE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 REIMBURSEABLE EXPENSE/CHARGE FOR DEDUCTIBLE ME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NATURE AND EXPLANATION       AMT CLMD      AL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MMARY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  13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UAL EXPE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Long distance telephone calls are   APPROVING OFFICER     MILEAGE OR TRANSP      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ertified interest of Government.                             REIMBURSABLE EXP        4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          TR’s/MTA’s/MT’s (if none so state)              TOTAL ENTITLEMENT     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             FROM                TO                  LESS PREVIOUS PAY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ESS VOU DEDUCTION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T CHG ACCT CLASS    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PAYMENT DESI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CHECK [ ]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LEAVE STATEMENT:    DAYS       HRS BETWEEN     AND         12.[ ] PER DIEM REQUES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OC TRAVEL:  [ ] OWNER/OPERATOR  [ ] PASSENGER             13.[ ] BAS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NALTU:  THE PENTALTY FOR A FALSE CLAIM IS MAXIMUM FINE OF $10,000.00/INPRISONMENT 5 YRS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hereby claim any amount due me. The  14.  SIGNATURE OF CLAIMANT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ments are true and complete.                   /S/                        3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 ACCOUNTING CLASS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12007/N103 S09076  $ 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12007/N103 S09076  $141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COLLEC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COMPUTED   18. AUDITED  19. TVL RCRD  20. RECEIVED (SIGNATURE/DTD CK NO)  21.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/S/          /S/                 /S/   31 DEC **              $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" y="6934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235080"/>
            <a:ext cx="0" cy="669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6705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5840" y="67816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" y="7086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8760" y="7238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8760" y="640080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54640" y="6400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25840" y="65530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8760" y="6248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760" y="6172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760" y="58672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35880" y="58672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5840" y="60199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76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8760" y="5562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76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760" y="53341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8760" y="5181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8760" y="5029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6026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7620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8760" y="79246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760" y="8458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8760" y="2743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8760" y="2895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8760" y="3276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9019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4290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760" y="35053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760" y="3657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760" y="8763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6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8760" y="39625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8760" y="4114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76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8760" y="4419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76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760" y="4952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87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8760" y="4724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27496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25840" y="34290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25840" y="35053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2680" y="365760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3657600"/>
            <a:ext cx="295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36640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1440" y="380988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92680" y="39625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411480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92680" y="41911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11440" y="434340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92680" y="44956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11440" y="464832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2680" y="480060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92680" y="49528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25840" y="51814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34354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8760" y="2133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" y="1752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760" y="13716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8760" y="1066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8760" y="8380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2160" y="10666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25840" y="9144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5840" y="3808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876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9248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4200" y="9066240"/>
            <a:ext cx="3404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351-2  1 JUN 78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55688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1073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4160" y="9055080"/>
            <a:ext cx="3557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18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36480" y="2666880"/>
            <a:ext cx="262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E: This is a disbur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cause of the voucher numb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the paid by blo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ADJUST PROMPT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/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 100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ODC  NUMBER 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1T1 N103  2   WIL9701TT12007  406901   F     3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1T2 N103  2   WIL9701TT12007  406901   F    14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21T2   N103    2   WIL9701TT12007          9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560" y="80168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520" y="85345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1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6160" y="3733920"/>
            <a:ext cx="25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ment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final. FI=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840" y="670572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Must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1000" y="74520"/>
            <a:ext cx="6684840" cy="969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134-90-8888 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RD BDE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LASS 28-9*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        5-20 DEC 9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05 DEC 9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ERNA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9*    FROM FT. STEWART,GA  - ARV  FT SHERIDAN, 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9*    DEP FT SHERIDAN IL   - ARV FT STEWART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.  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X                                           [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MAX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ES ARE AVAIL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 ADMIN                ROBERT L. EICHLER, LTC, GS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/A141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/A141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5080" y="38098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520" y="86104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20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T CODED -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520" y="852804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2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81000" y="74520"/>
            <a:ext cx="6684840" cy="969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7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MSTRONG, JACK T.  161-72-0172              DEP  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Q                               22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. SEMINAR &amp;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2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ERNA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V FT KNOX, K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FT KNOX - ARV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00.00             $   55.00        $  0.00          $  155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LMA S. WRIGHT, 1LT, AG,ADMIN OFFICER            ARRON R. ANDERSON, DAC, DEP DA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ARM0172TT12009/N102 S09076  $ 55.00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ARM0172TT12009/N102 S09076  $100.00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T. SHOLTO, MAJ, AG,ADJ   /S/                                 TO  12-9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520" y="86104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22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2320" y="385920"/>
            <a:ext cx="525636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OBLIGATE NOT LATER THAN THE MONTH TRAVEL COMMENC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2760" y="1146240"/>
            <a:ext cx="62881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6480" y="250020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21T1   N102    2   ARM0172TT12009          5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21T2   N102    2   ARM0172TT12009         1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520" y="852804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2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31760" y="76320"/>
            <a:ext cx="6645240" cy="874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UREAU VOU NUMBER        D.O VOUCHER NO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                                                 5062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.                            PAYMENT FOR         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ADV OF TVL ALLOWANCE (TDY)   X     6.  TRANS OF DEPENDENTS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ADV OF TVL ALLOWANCE (PCS)        7.  DISLOCATION ALLOWANCE            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.  ACCRUD PER DIEM (TDY)             8.  TRAILER ALLOW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SETTLEMENT OF TDY TRAVEL          9.                                     1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SETTLEMENT OF PCS TRAVEL          1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I.                                          INDIVIDUAL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PAYEE (LAST NAME, FIRST               2. RANK OR GRADE              3. SOCIAL SECURITY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MSTRONG, JACK T.                        SFC                           161-72-01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ORGANI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Q,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TRAVEL 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9, HQ, FT STEWART, GA  31314     7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ADVANCE OF TRAVEL ALLOWANCE ELECTED BY ABOVE MEMBER AS FOLLOW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CHECK NUMBER  8.  CHECK DATE  9.  AMOUNT PAID  1O. DATE PAID  11. RECEIVED IN CASH (SIG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100.00          11 DEC **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II.                                  PAYMENTS CONSOLIDA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PER SUDVOU NO.    THROUGH         STTACHED  2.  PER       TVL ALLOW PAYMENT LISTS ATTAC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V.                   APPROVED FOR PAYMENT (WHEN required by individual service reg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TYPED NAME AND TITLE                        2.   SIGNATU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. CORY, LTC, FC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.                                          REMA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(S) MUST BE FILED WITHIN FIVE DAYS AFTER COMPLETION OF TD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SPENSE DATE:  28 JAN **  (**02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I.                                ACCOUNTING CLASSIFICATION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0796.NB-4110 ARM0172TT12009/N102 S09076                        $100 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: This is a travel advance. Suspense date=Due d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MPUTED BY       AUDITED BY       POSTED TO TVL          DATE ENTERED         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/S/               /S/                   11 DEC **                 100.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4200" y="8763120"/>
            <a:ext cx="3404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351   1 JUL 65 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8760" y="457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8760" y="2057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8244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4636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8760" y="17524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8760" y="15238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8760" y="121932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8760" y="91440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8760" y="68580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3200" y="6922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62320" y="6922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8760" y="236232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8760" y="2743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8760" y="3200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8760" y="35812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8760" y="40384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8760" y="441972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8760" y="47242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8760" y="5029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8760" y="52578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236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236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4730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8760" y="56386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29000" y="5264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8760" y="59436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8760" y="6629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8760" y="68580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8760" y="83818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334120" y="6851160"/>
            <a:ext cx="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77120" y="686448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82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412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520" y="88390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24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59280" y="919080"/>
            <a:ext cx="32677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DO NOT OBLIGAT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2440" y="2894040"/>
            <a:ext cx="62164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 LAST       U  ORDER 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 ODC NAME SSN   C  NUMBER   NUMBER 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* **028 4110 N102  2  ARM  0172  TT 12009    506202     1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2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880" y="14616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T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51854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T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21637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T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4187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T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*365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28796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 T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*365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100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80" y="85215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3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52280" y="228600"/>
            <a:ext cx="6477120" cy="927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OR SUBVOUCHER  (Completed by typewriter, ink    10.    FOR DO USE ONLY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l point pen, not pencil)     DO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AD PRIVACY ACT STATEMENT PRIOR TO COMPLETING THIS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69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 NAME -FIRST NAME-INITIAL  GRADE/RANK   SS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MSTRONG, JACK T.            SFC          161-72-0172         SUB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MAILING ADDRESS (ZIP CODE)            DUTY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22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GAN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Q,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AVEL ORDERS (Paragraph, S.O. No. Issuing HQ)        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9  HQ FT STEWART, GA 31314 DTD  6 DEC**                   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OR TRAVEL PAYMENTS OR ADVANCE UNDER THESE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Amount, Dov No. Date, If none, so st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100.00  DOV 406202, DTD 11 DEC **, FT STEWART GA                       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ITINERARY (Item 25 for Symbols)  2.     3. NBR      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LOCAL      PLACE           REA  COST   OF MEAL    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    TIME    (Home,Office,  MOD SON    OF   GOVT\OPN   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24HOUR) Base, City,ST) TVL STP  LODG.   /M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P                         ***          /DED       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R                     ***                                         COMPU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TUDENT NO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OR:        21T1    21T2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BLIG/AEE   55.00  100.00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URSE    65.00  100.00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JUST    $10.00  $ 0.00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ASSUME THAT VOUCHER IS COMPLETE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 REIMBURSEABLE EXPENSE/CHARGE FOR DEDUCTIBLE ME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NATURE AND EXPLANATION       AMT CLMD    AL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MMARY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  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UAL EXPE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Long distance telephone calls are   APPROVING OFFICER     MILEAGE OR TRANSP      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ertified interest of Government.                             REIMBURSABLE EXP        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          TR’s/MTA’s/MT’s (if none so state)              TOTAL ENTITLEMENT     1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             FROM                TO                  LESS PREVIOUS PAY       0.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ESS VOU DEDUCTION    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T CHG ACCT CLASS    1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PAYMENT DESI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CHECK [ ]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LEAVE STATEMENT:    DAYS       HRS BETWEEN     AND         12.[ ] PER DIEM REQUES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OC TRAVEL:  [ ] OWNER/OPERATOR  [ ] PASSENGER             13.[ ] BAS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NALTU:  THE PENTALTY FOR A FALSE CLAIM IS MAXIMUM FINE OF $10,000.00/INPRISONMENT 5 YRS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hereby claim any amount due me. The  14.  SIGNATURE OF CLAIMANT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ments are true and complete.                   /S/                        3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 ACCOUNTING CLASS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ARM0172TT12009/N102 S09076  $ 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ARM0172TT12009/N102 S09076  $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COLLEC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202096.NB-4110 ARM0172TT12009/N102 S09076  (**028)  $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COMPUTED   18. AUDITED  19. TVL RCRD  20. RECEIVED (SIGNATURE/DTD CK NO)  21.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/S/          /S/           68904                             $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8760" y="69343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19720" y="235080"/>
            <a:ext cx="0" cy="669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8760" y="6705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25840" y="67816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8760" y="70866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8760" y="72388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8760" y="640080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54640" y="640080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5840" y="65530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62485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8760" y="6172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8760" y="58672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629400" y="58672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25840" y="601992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5715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8760" y="5562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8760" y="54100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8760" y="53341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8760" y="5181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8760" y="5029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98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6026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8760" y="7620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8760" y="79246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8760" y="8458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8760" y="2743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8760" y="2895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8760" y="3276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29019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8760" y="34290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8760" y="35812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8760" y="88390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430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812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86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8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8760" y="39625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8760" y="4114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876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8760" y="4419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876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8760" y="4952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87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8760" y="4724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27496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25840" y="34290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25840" y="35812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9640" y="3657600"/>
            <a:ext cx="295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36640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05320" y="3809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05320" y="39625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11440" y="41148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11440" y="43434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5320" y="4495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05320" y="480060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4952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25840" y="51814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096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004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354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8760" y="2133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8760" y="1752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8760" y="13716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8760" y="1066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8760" y="8380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10666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25840" y="9144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5840" y="3808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876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9248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4200" y="9066240"/>
            <a:ext cx="3404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351-2  1 JUN 78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91320" y="55688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24080" y="1073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24160" y="9055080"/>
            <a:ext cx="3557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26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29600" y="157320"/>
            <a:ext cx="3747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ADJUST PROMPT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OBLIGATION/TRAVEL ADVANCE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DISBURSEMENT/OBLIGATION/AE/E/COL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0160" y="2055960"/>
            <a:ext cx="6216480" cy="136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 APC  ODC  NUMBER   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     *    21T1  N102  2   ARM0172TT12009  406906   F   6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     *    21T2  N102  2   ARM0172TT12009  406906   F  1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6120" y="3656160"/>
            <a:ext cx="628524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     LAST       U   ORDER   VOUCHER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  EOR  APC  ODC NAME  SSN  C   NUMBER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2    *  **028 4110 N102 2  ARM  0172 TT 12009   406906  100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0160" y="5103720"/>
            <a:ext cx="614808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 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   *   21T1  N102   2  ARM0172TT12009       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27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9560" y="6324480"/>
            <a:ext cx="284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Code disbursem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ion of travel advan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djust oblig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07000" y="385920"/>
            <a:ext cx="32677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T CODED -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29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152280"/>
            <a:ext cx="685800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OLICITATION, OFFER, AWARD     3.  CONTRACT IS A RATED ORDER      RATING      4. PAG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NDER DPAS (15CFR 350)                       1  of 1    PAG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CONTRACT NO.     2. SOLICITATION NO                     5. DATE ISSUE    6. REQUISITION/PUR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C 1713     [ ]ADVERTISED(ifb) [x]NEGOTIATED(REP)    1 DEC **      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RC 4111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ISSUED BY                    CODE            8.  ADDRESS OFFER TO (IF OTHER THAN ITEM 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&amp; CONTRACTING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31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OLICITATION                                                     .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SEALED OFFERS IN ORIGINAL AND __COPIES WILL BE RECEIVED AT THE PLACE SPECIFIED IN ITEM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 THE DEPOSITORY LOCATED IN ______________________________UNTIL_______LOCAL TIME  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HOURS)           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UTION - LATE SUBMISSIONS, MODIFICATION, AND WITHDRAWALS; SEE SECTION L.  ALL OFFERS 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UBJECT TO ALL TERMS AND CONDITIONS CONTAINED IN THIS SOLICITATION                              .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INFORMATION        A. NAME                          B.  TELEPHONE NO.  (NO COLLECT CAL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L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.                      11.                           12.      13.      14.             1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            SUPPLIES/SERVICES                QUANTITY    UNITS   UNIT PRICE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    10 MONTH RENTAL CONTRACT ON X-RAY FOR       10 MOS.    MO      $10,000.00     $100,000.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S ARMY HOSPITAL BEGINNING 1 DEC **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OFFER (MUST BE FULLY COMPLETE BY OFFEROR)                                          .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 COMPLIANCE WITH THE ABOVE, ORDER IS ACCEPTED WITHIN______CALENDAR DAYS (60 UNLESS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OM THE DATE FOR RECEIPT OF OFFERS SPECIFIED ABOVE, TO FURNISH ANY/ALL ITEMS AT PRI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OPOSITE EACH ITEM, DELIVERED AT THE DESIGNATED POINT(S), IN THE SCHEDULE                        .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DISCOUNT FOR         10 CALENDAR DAY    20 CALENDAR DAY    30 CALENDAR DAY    CALENDAR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YMENT                   %                 %                %                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NAME          CODE          FACILITY               18. NAME AND TITLE OF PERS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        QUALITY X-RAY SERVICES                     TO SIGN OFFER (TYPE OR PRI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 3965 INDUSTRIAL BLV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         SAVANNA, GA  31314                              JANE T. SMITH, SALES MG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ER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ELEPHONE NUMBER          CHECK IF REMITTANCE          19.  SIGNATURE                20.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912) 355-0897        [ ] ADDRESS IS DIFFERENT.                  /S/               20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WARD (TO BE COMPLETED BY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 ACCEPTANCE ITEMS NO.      22.  AMOUNT         23.  ACCOUNTING AND APPROPR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33 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100,000.00         W23DFB*3190004/W330 S09076                .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4.  SUBMIT INVOICES TO ADDRESS SHOWN IN          25.  NEGOTITED    [X] 10 U.S.C. 2304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CK:  7                                     PURSUANT TO   [ ] 41 U.S. C. 252(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 ADMINISTERED BY          CODE                27.  PAYMENT WILL BE MADE BY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8. NAME OF CONTRACTING OFFICER                   29.  UNITED STATES OF AMERICA        30.AW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ENDALL PURCHASE, LTC, PURCHASING OFFICER                         /S/        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ONTRACTING OFFICER   1DEC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ANT - AWARD WILL BE MADE ON THIS FORM, OR SF 26, OR BY OTHER WRITTEN NOTI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800" y="8767800"/>
            <a:ext cx="680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MPUTER LOOK ALIKE                                                 STANDARD FORM 33 (REV 4-8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30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197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4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5780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15238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996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0040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2895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411480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2900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6728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510552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58672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6324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5873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9880" y="5873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5873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65530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81080" y="65595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29000" y="65595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739152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79246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45820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79311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82360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5248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1972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3868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8080" y="51116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51116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5111640"/>
            <a:ext cx="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82640" y="5257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01960" y="5257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01600" y="385920"/>
            <a:ext cx="559944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OBLIGATE FUNDS WHEN THE CONTRACT IS SIGNED FOR THE FU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OUNT OF THE CONTRACT PROVIDED THE CONTRACT DOES N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ED 12 MONT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0160" y="244332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100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 *     2320  W330    2   W23DFB*3190004        10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31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1360" y="6400800"/>
            <a:ext cx="57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F 33 is always a contract as long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28,29,30 are filled 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228600"/>
            <a:ext cx="6858000" cy="831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  1.PROC.  INSTRUMENT  ID  (CONTRACT)  ORDER NO    6. INVOICE  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FI01 ** C 1713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 ACPT PT: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  3.  DATE SHIPPED      4. B/L  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RIME CONTRACTOR          CODE            10.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QUALITY X-RAY SERVICES, INC                     P &amp; C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965 INDUSTRIAL BLVD                            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VANNA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 12.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  17. QUANTITY*    18.       19.         20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DICATE # OF SHIPPING CONTAINERS)    SHIP/REC’D      UNIT  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RENTAL CONTRACT SERVICE - DEC **        1 MO.                 $10,000.00    1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7*0130 74-7406 847792.33-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23DFB*3190004/W330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   PROCUREMENT QUALITY ASSURANCE                             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 DEC **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S.                       SUPPORTING DOCUMENTS             DATE REC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.P. J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COL, M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A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SIGN.  OF AUTH REP.                                      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A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N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880" y="8604360"/>
            <a:ext cx="277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2440" y="685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528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9360" y="533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2440" y="10666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2440" y="1752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2440" y="31240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06880" y="24382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2440" y="34290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2440" y="5486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52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199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76320" y="555588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440" y="5562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2440" y="7772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72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440" y="69343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54440" y="6400800"/>
            <a:ext cx="6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6560" y="640080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0" y="87501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32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4520" y="4232160"/>
            <a:ext cx="59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D Form 250 is always in the accr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diture expense stage. Represents rece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goo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59280" y="919080"/>
            <a:ext cx="3336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T OBLIGATION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  10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DOCUMENT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    *   2320   W330    2    W23DFB*3190004          1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160" y="8528040"/>
            <a:ext cx="6864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33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85680"/>
            <a:ext cx="6553440" cy="860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tandard form  1034              PUBLIC VOUCHER FOR PURCHASES AND SERVICES AND         VOUCHER NUMBER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vised January 1980               SERVICES OTHAN PERSONAL                                226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PARTMENT OF THE TREAS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. DEPARTMENT, BUREAU AND LOCATION      DATE VOU.  PREPARED                           SCHEDULE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 ARMY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T. STEWART, GA  31314             CONTRACT NO. AND DATE                         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FI01 ** C 1713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ISITION NO. &amp; DATE                          FT STEWART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31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    QUALITY X-RAY SERVICES, INC                    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ME        3965 INDUSTRIAL BLVD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        SAVANNAH, GA 31314                                                         DATE INVOICE REC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ISCOUNT TER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/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ACCT.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HIPPED FROM                        TO                         WEIGHT                  GOVERNMENT B/L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UMBER        DATE OF               ARTICLES OF SERVICE       QUAN-    UNIT PRICE           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DATE      DELIVERY     (Enter description of item of      TITY     COST    P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F ORDER      /SERVICE     contract or information necess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DEC **     1-31 DEC      PAYMENT OF CONTRACT FOR X-R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CHINE RENTAL FOR THE MONTH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C **                                                           $10,0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cont. Sheet if necessary (Payee must not use space below)                TOTAL          $10,000.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MENT:          APPROVED FOR                    EXCHANGE RATE         DIF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VISIONAL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MPLETE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PARTIAL        B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NAL                                                            AMOUNT CORRECT           $10,000.00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GRESS       TITLE                                              SIGNATURE OF IN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ANCE                                                                 /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URSUANT TO AUTHORITY VESTED IN ME.  I CERTIFY VOUCHER IS CORRECT AND PROPER FOR PAY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31 DEC **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WALTER CORY, LTC, FC, DO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DISURSING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E         AUTHORIZED CERTIFYING OFFICER                            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COUNTING CLASS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*0130 74-7406 847792.33-2320 W23DFB*3190004/W330 S09076  $10,0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  CHECK NUMBER   ON ACCOUNT OF US TREASURY        CHECK NUMBER            ON  (NAME OF BAN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   6701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  CASH               DATE                         PAY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WHEN STATED IN FOREIGN CURRENCY, INSERT NAME OF CURRENCY.    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  iF THE ABILITY TO CERTIFY AND APPROVE, ONLY ONE SIGN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. WHEN A VOUCHER IS RECEIPTED IN NAME OF COMPANY, NAME AND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PACITY MUST APPEARE.  FOR EXAMPLE:  “JOHN DOE, TREASURER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720" y="8381880"/>
            <a:ext cx="1522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COMPUTER LOOK A 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280" y="6094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57800" y="82440"/>
            <a:ext cx="0" cy="25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64280" y="22096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264280" y="19810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64280" y="167652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280" y="129528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14600" y="615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21080" y="8380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21080" y="114300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57400" y="82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8760" y="4876920"/>
            <a:ext cx="654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38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86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26733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25840" y="281952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6920" y="2825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16560" y="281952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280" y="502920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280" y="5867280"/>
            <a:ext cx="654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06668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9112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7240" y="5638680"/>
            <a:ext cx="250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48830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73160" y="525780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90920" y="5035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73160" y="541008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66680" y="563868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1040" y="6248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73160" y="6248520"/>
            <a:ext cx="25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73560" y="62485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52280" y="6400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280" y="6705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5240" y="7315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52280" y="78487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88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0880" y="76201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812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44960" y="8077320"/>
            <a:ext cx="26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038480" y="7854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8760" y="5257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876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8760" y="54864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8760" y="5562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8760" y="5715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52280" y="24382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280" y="26668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2280" y="31240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520" y="875016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34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23200" y="3774960"/>
            <a:ext cx="56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F 1034 is a disbursement vou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ucher number and paid by block.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supports pay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30680" y="385920"/>
            <a:ext cx="33361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T OBLIGATION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0160" y="2284560"/>
            <a:ext cx="621648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      *   2320  W330  2   W23DFB*3190004  226400      1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520" y="853452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3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05560" y="385920"/>
            <a:ext cx="381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COMMITMENT DOCUMENT NO COD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99800" y="2443320"/>
            <a:ext cx="63536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MAN  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HRS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37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0520" y="385920"/>
            <a:ext cx="60793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OBLIGATE NOT LATER THAN THE MONTH SERVICES ARE RECEIVED, WHE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ID OR NOT.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9440" y="2443320"/>
            <a:ext cx="6422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  BLOCK NUMBER 10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VOUCHER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  NUMBER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280- 1100 DPA6    2  CPA01CA6103348        211664-  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  1200 DPA6    1  CPA01CA6103348           824-  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560" y="1909800"/>
            <a:ext cx="2033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80" y="852804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45080" y="85680"/>
            <a:ext cx="2284560" cy="4539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AMERITEC COMPAN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86680" y="650880"/>
            <a:ext cx="17359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3840" y="809640"/>
            <a:ext cx="20102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.O. BOX 70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AVANNNAH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87040" y="1260360"/>
            <a:ext cx="18273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MOUNT  PAI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02160" y="152388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3412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906480" y="1419120"/>
            <a:ext cx="21016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ST SIGNAL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DG 200, RM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. STEWART, GA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8080" y="2174760"/>
            <a:ext cx="65689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URRENT CHARGES                                      TOTAL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S DUE AFTER......JAN 5, **              AMOUNT DUE:   $14,18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12120" y="2943360"/>
            <a:ext cx="6490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TACHED AND MAIL TOP PORTION WITH YOUR CHECK MADE PAYABLE TO 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LL FOR THE TOTAL AMOUNT 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-29880" y="3357720"/>
            <a:ext cx="6902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3800" y="3705120"/>
            <a:ext cx="1644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ILLING SUMM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52680" y="3645000"/>
            <a:ext cx="16293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912) 355-XXXX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51960" y="4025880"/>
            <a:ext cx="160668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 26, 19**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5800" y="4384800"/>
            <a:ext cx="6490800" cy="75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EVIOUS                           PAST DUE   CURRENT      TOTAL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ILL     PAYMENTS   ADJUSTMENT   AMOUNT      CHARGES   AMOUNT 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$13,965.00   $13,965.00     $0.00           $0.00       $14,185.00    $14,185.00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4360" y="5281560"/>
            <a:ext cx="603360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SUMMARY OF CURRENT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OR DETAIL CHARGES - SEE P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NTHLY SERVICE ......................................$12,8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NG DISTANCE ........................................$ 1,3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IANA BELL CURRENT CHARGES ........................ $14,18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T&amp;T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OR DETAIL CHARGES - SEE P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NG DISTANCE.........................................$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T&amp;T COMMUNICATIONS CURRENT CHARGES...................$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CURRENT CHARGES ................................$14,18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1*2020 03-3116 117095.00-2330 PHN129*GEOBEL/U300 S09076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03560" y="7929720"/>
            <a:ext cx="292464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THAT THE SERVICE CALLED FOR 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DELIVERY ORDER HAS BEEN RENDERED P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ERMS &amp; SPECIFICATIONS OF THE ORD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UPERT O. TAY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J, S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5080" y="487692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4300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0968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52680" y="44258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1972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1008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6640" y="7947000"/>
            <a:ext cx="2101680" cy="453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AMERICAN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520" y="87501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38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588400" y="0"/>
            <a:ext cx="32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Utility bill. No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bursement ,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uch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00880" y="385920"/>
            <a:ext cx="594216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OBLIGATE THE ENTIRE AMOUNT OF THE BILL IN THE MONTH IN WH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BILLING PERIOD ENDS, REGARDLESS OF FISCL YEA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00160" y="244332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I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 *     2330  U300   2   PHN129*GEOBELL      1418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5308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39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7360" y="85680"/>
            <a:ext cx="6765120" cy="82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tandard form  1034              PUBLIC VOUCHER FOR PURCHASES AND SERVICES AND         VOUCHER NUMBER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vised January 1980               SERVICES OTHAN PERSONAL                                226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PARTMENT OF THE TREAS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.S. DEPARTMENT, BUREAU AND LOCATION      DATE VOU.  PREPARED                           SCHEDULE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 ARMY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T. STEWART, GA  31314             CONTRACT NO. AND DATE                         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FI01 ** C 2000/1 OCT **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ISITION NO. &amp; DATE                          FT STEWART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31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    GEORGIA BELL TELEPHONE COMPANY                    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ME        240 NORTH MAIN STREET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        SAVANNAH, GA 31314                                                         DATE INVOICE REC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6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ISCOUNT TER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ACCT.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HIPPED FROM                        TO                         WEIGHT                  GOVERNMENT B/L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UMBER        DATE OF               ARTICLES OF SERVICE       QUAN-    UNIT PRICE           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DATE      DELIVERY     (Enter description of item of      TITY     COST    P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F ORDER      /SERVICE     contract or information necess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NOV**      TELEPHONE LOCAL EXCHANGE AND T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HRU        SERVICE PER DETAILED BILL HERE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1 DEC**     WITH ATTACHED DTD 26 DEC **                                      $14,18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cont. Sheet if necessary (Payee must not use space below)                TOTAL          $14,185.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MENT:          APPROVED FOR                    EXCHANGE RATE         DIF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VISIONAL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MPLETE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PARTIAL        B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NAL                                                            AMOUNT CORRECT           $14,185.00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GRESS       TITLE                                              SIGNATURE OF IN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ANCE                                                                 /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URSUANT TO AUTHORITY VESTED IN ME.  I CERTIFY VOUCHER IS CORRECT AND PROPER FOR PAY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31 DEC **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WALTER CORY, LTC, FC, DO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DISBURSING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E         AUTHORIZED CERTIFYING OFFICER                             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COUNTING CLASS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1*2020 03-3116 117095.00-2330 PHN129*GEOBELL/U300 S09076   $14,18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  CHECK NUMBER   ON ACCOUNT OF US TREASURY        CHECK NUMBER            ON  (NAME OF BAN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   679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  CASH               DATE                         PAY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WHEN STATED IN FOREIGN CURRENCY, INSERT NAME OF CURRENCY.    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  iF THE ABILITY TO CERTIFY AND APPROVE, ONLY ONE SIGN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. WHEN A VOUCHER IS RECEIPTED IN NAME OF COMPANY, NAME AND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PACITY MUST APPEARE.  FOR EXAMPLE:  “JOHN DOE, TREASURER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7200" y="8381880"/>
            <a:ext cx="1522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COMPUTER LOOK A 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2440" y="609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2440" y="26668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257800" y="82440"/>
            <a:ext cx="0" cy="25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440" y="24382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64280" y="2209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64280" y="19810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64280" y="16765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440" y="12952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615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21080" y="8380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21080" y="10666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57400" y="82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2440" y="30481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2440" y="4876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38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00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419720" y="26733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410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25840" y="281952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76920" y="2825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16560" y="281952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2440" y="50292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2440" y="58672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668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9112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97240" y="5638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10080" y="48830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073160" y="5257800"/>
            <a:ext cx="570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90920" y="5035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73160" y="5410080"/>
            <a:ext cx="570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49480" y="563868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1040" y="6248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73160" y="6248520"/>
            <a:ext cx="25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73560" y="62485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2440" y="6400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2440" y="6705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2440" y="73152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2440" y="7848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5080" y="7620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4812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044960" y="807732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038480" y="7854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2440" y="5257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244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2440" y="54864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5562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2440" y="5715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86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0" y="875016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40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38240" y="385920"/>
            <a:ext cx="6719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NONE - DISBURSEMENT DOCUMENT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0160" y="2284560"/>
            <a:ext cx="621648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     *    2330  U300  2   PHN129*GEOBELL  226509      1418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520" y="85345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4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05560" y="385920"/>
            <a:ext cx="381636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COMMITMENT DOCUMENT  NO CO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880" y="852804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4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4680" y="81000"/>
            <a:ext cx="677232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80         0001            25 DEC **       PRC 2404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1 JAN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CONSTRUCTION SERVICE CO.         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129 W. 22ND ST.                                       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HOSPITAL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63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60-25CZ W23DFB*3340001/W6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HOSPITAL HEATING AND         1 JOB                 163.00       $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163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DI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INSPECTED [ ]RECEVED [ ]ACCEPTED,CONFORMS                                INIT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80" y="72388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206880" y="74674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264280" y="77724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64280" y="8001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720" y="8920080"/>
            <a:ext cx="3130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19920" y="6711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224160" y="8902800"/>
            <a:ext cx="3557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44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25780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051560" y="5603760"/>
            <a:ext cx="53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D FORM 1155 block 24 fill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a contract. Block 16 give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gation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199440" y="385920"/>
            <a:ext cx="642240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PURCHASE ORDERS $100,000 OR LESS, OBLIGATE UPON ISSUANCE TO VENDOR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0160" y="244332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 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 *     25CZ  W601   2   W23DFB*3340001        16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520" y="852804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4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680" y="81000"/>
            <a:ext cx="6772320" cy="859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80         0001            25 DEC **       PRC 2404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1 JAN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CONSTRUCTION SERVICE CO.         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129 W. 22ND ST.                                       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HOSPITAL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63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60-25CZ W23DFB*3340001/W6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HOSPITAL HEATING AND         1 JOB                 163.00       $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163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29.DIFF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INSPECTED [X]RECEVED [X]ACCEPTED,CONFORMS                                 INIT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/S/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[X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29 DEC **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273560" y="2133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57800" y="67057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80" y="8305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7086600"/>
            <a:ext cx="0" cy="15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00400" y="7086600"/>
            <a:ext cx="0" cy="15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05120" y="8305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2120" y="8305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06880" y="739152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264280" y="7924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264280" y="76201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-7200" y="8610480"/>
            <a:ext cx="3130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019920" y="6629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70866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57800" y="7086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880" y="87501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4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5800" y="5603760"/>
            <a:ext cx="59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block 24,26,38,39 filled in make th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report. AE/E s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359280" y="919080"/>
            <a:ext cx="32677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 100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    *   25CZ   W601     2      W23DBF*3340001           16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520" y="852804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4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4680" y="81000"/>
            <a:ext cx="677232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80         0001            25 DEC **       PRC 2404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1 JAN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CONSTRUCTION SERVICE CO.         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129 W. 22ND ST.                                       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HOSPITAL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63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60-25CZ W23DFB*3340001/W6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HOSPITAL HEATING AND         1 JOB                 163.00       $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163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   DI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INSPECTED [X]RECEVED [X]ACCEPTED,CONFORMS                  269990         INIT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/S/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[X]FINAL  FT. STEWART GA             $163.0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31314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X]COMPLETE  ADSN: 6348              6798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[]PARTIAL    30 DEC **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29 DEC **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267080" y="2133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206880" y="74674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64280" y="77724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264280" y="8001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4720" y="8920080"/>
            <a:ext cx="3130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19920" y="67118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6880" y="72388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70866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257800" y="7086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881440" y="8902800"/>
            <a:ext cx="3976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48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29600" y="5603760"/>
            <a:ext cx="53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block 24,26,28,32,33,38,3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ed in make this a disbursement. Ch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31 to determine if payment is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SIMULTANEOUS OBLIGATION AND LIQUID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160" y="2443320"/>
            <a:ext cx="62164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 100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DOCUMENT        VOUCHER        #EMP      F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ODC  NUMBER          NUMBER  AMOUNT PAID IBOP I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   *  560 1100 DPA6  2   CPA01CA6103364  300018  39872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   *      1200 DPA6  1   CPA01CA6103364  300018    14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20" y="852804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7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130680" y="385920"/>
            <a:ext cx="32677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8080" y="2513160"/>
            <a:ext cx="641664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      *    25CZ W601   2  W23DFB*3340001  269990  F   16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76480" y="46530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8520" y="85345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49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205560" y="385920"/>
            <a:ext cx="38847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COMMITMENT DOCUMENT  NO COD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51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594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MITH BROTHERS BLDG &amp; SUPPLY    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130 S. MADISON 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INANCE CORPS, 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NOR REPAIR AND PAINTING EXTERIOR OF BLDGS 3408, 3207, 4603, 4909, 4881, 5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EN THOUSAND SIX HUNDRED FORTY TWO DOLLARS                        $10,64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350009/L10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5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DEC **                                   15 FEB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880" y="87501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52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87160" y="6518160"/>
            <a:ext cx="61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 SF 23 is always a firm fix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d contract, making the obliga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agte upon written acceptance by the ven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00880" y="385920"/>
            <a:ext cx="62168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urier Ne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BLIGATION RULE: Firm fixed priced- obligate upon written acceptance by the vendo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00160" y="244332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 *    25CZ   L101   2   W23DFB*3350009       1064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’S BLDG &amp; SUPPLY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520" y="867420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5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55440" y="227160"/>
            <a:ext cx="6802560" cy="831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 1.  PROC.  INSTRUMENT  ID (CONTRACT)  ORDER NO   6.  INVOICE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94                   8.  ACPT PT: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3.  DATE SHIPPED      4. B/L 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RIME CONTRACTOR          CODE           10.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MITH BROTHER’S BLDG &amp; SUPPLY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 &amp; C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130 S. MADISON                                 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12.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17. QUANTITY*    18.       19.           2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DICATE # OF SHIPPING CONTAINERS)    SHIP/REC’D      UNIT  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BLDG #3408 AND 3207 COMPLETE                                   $3,192.00    3,19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78.Z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23DFB*3350009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.   PROCUREMENT QUALITY ASSURANCE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8 DEC **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S.                       SUPPORTING DOCUMENTS             DATE REC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CHAEL AL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MAJ, CE, DE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A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SIGN.  OF AUTH REP.                                      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A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N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5960" y="8521560"/>
            <a:ext cx="277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2440" y="6858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9528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959360" y="533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2440" y="106668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2440" y="175248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2440" y="312408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06880" y="2438280"/>
            <a:ext cx="36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2440" y="34290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2440" y="54864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52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0958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2440" y="77724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286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2440" y="693432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654440" y="64008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16560" y="640080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880" y="875016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54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359280" y="919080"/>
            <a:ext cx="33361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NE - ACCRUAL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 100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    *   25CZ   L101    2       W23DFB*3350009           319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5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27720" y="85680"/>
            <a:ext cx="6704280" cy="82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tandard form  1034              PUBLIC VOUCHER FOR PURCHASES AND SERVICES AND         VOUCHER NUMBER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vised January 1980               SERVICES OTHAN PERSONAL                                2265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PARTMENT OF THE TREAS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. DEPARTMENT, BUREAU AND LOCATION      DATE VOU.  PREPARED                           SCHEDULE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 ARMY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T. STEWART, GA  31314             CONTRACT NO. AND DATE                         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FI01 ** C 1594/16DEC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ISITION NO. &amp; DATE                          FT STEWART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31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    SMITH BROTHER’S BLDG &amp; SUPPLY                   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ME        3130 MADISON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        SAVANNAH, GA 31314                                                         DATE INVOICE REC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ISCOUNT TER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ACCT.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HIPPED FROM                        TO                         WEIGHT                  GOVERNMENT B/L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UMBER        DATE OF               ARTICLES OF SERVICE       QUAN-    UNIT PRICE           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DATE      DELIVERY     (Enter description of item of      TITY     COST    P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F ORDER      /SERVICE     contract or information necess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LDG #3408 AND 3207 COMPLE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30% PROGRESS PAY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$ 3,19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cont. Sheet if necessary (Payee must not use space below)                TOTAL          $ 3,192.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MENT:          APPROVED FOR                    EXCHANGE RATE         DIF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VISIONAL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MPLETE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RTIAL        B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NAL                                                            AMOUNT CORRECT           $ 3,192.00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PROGRESS       TITLE                                              SIGNATURE OF IN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ANCE                                                                 /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URSUANT TO AUTHORITY VESTED IN ME.  I CERTIFY VOUCHER IS CORRECT AND PROPER FOR PAY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31 DEC **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     CARMEN B. MIRANDOLINO         .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     Chief, Accounts Pay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E         AUTHORIZED CERTIFYING OFFICER                        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COUNTING CLASS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1*2020 76-9505 117078.Z0-25cz W23DFB*3350009/L101 S09076   $ 3,19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  CHECK NUMBER   ON ACCOUNT OF US TREASURY        CHECK NUMBER            ON  (NAME OF BAN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   679001               $3,19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  CASH               DATE                         PAY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WHEN STATED IN FOREIGN CURRENCY, INSERT NAME OF CURRENCY.    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  IF THE ABILITY TO CERTIFY AND APPROVE, ONLY ONE SIGN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. WHEN A VOUCHER IS RECEIPTED IN NAME OF COMPANY, NAME AND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PACITY MUST APPEARE.  FOR EXAMPLE:  “JOHN DOE, TREASURER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-7200" y="8381880"/>
            <a:ext cx="1522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COMPUTER LOOK A 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440" y="6094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2440" y="2666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257800" y="82440"/>
            <a:ext cx="0" cy="25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2440" y="24382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264280" y="22096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264280" y="19810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64280" y="167652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2440" y="12952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14600" y="615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21080" y="8380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521080" y="10666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57400" y="82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44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2440" y="4876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38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00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886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19720" y="26733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425840" y="281952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2825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416560" y="281952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440" y="50292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440" y="58672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6668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9112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197240" y="5638680"/>
            <a:ext cx="250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410080" y="48830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073160" y="525780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90920" y="5035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073160" y="541008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066680" y="56386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11040" y="6248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073160" y="6248520"/>
            <a:ext cx="25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273560" y="62485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2440" y="64008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440" y="6705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2440" y="73152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2440" y="7848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860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35080" y="7620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04812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044960" y="8077320"/>
            <a:ext cx="26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7854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2440" y="5257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244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2440" y="54864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2440" y="5562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2440" y="5715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6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880" y="87501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5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129960" y="385920"/>
            <a:ext cx="36792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NE - DISBURSE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08080" y="2513160"/>
            <a:ext cx="641664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ODC  NUMBER    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     *    25CZ  L101  2   W23DFB*3350009   226510      319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6480" y="46530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520" y="85345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5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205560" y="385920"/>
            <a:ext cx="38847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 CODING -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880" y="852804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59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81000" y="108000"/>
            <a:ext cx="670068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)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496     DAFI01 ** D 1500      23 DEC **       PRC 3406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(SEE 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DEC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WRIGHT-BACHMAN CONSTRUCTION, INC.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7980 N. MICHIGAN RD.                                 2/10,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ENGINEER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00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  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9 117078.Z0-25CZ W23DFB*3530001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ROOFS - BLDG 555 AND 556,     1 JOB                 832.00      $83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PERTY DISPOSAL INSIDE STORAGE ARE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832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29.DIFF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INSPECTED [ ]RECEVED [ ]ACCEPTED,CONFORMS                               30.INITIAL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2280" y="16002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2280" y="9144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5240" y="2514600"/>
            <a:ext cx="661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52280" y="533520"/>
            <a:ext cx="540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52280" y="3200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8920" y="38098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088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52280" y="434340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2280" y="4876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52280" y="51814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2280" y="6705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2280" y="7086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2280" y="8534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52280" y="7924680"/>
            <a:ext cx="304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06880" y="74674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264280" y="77724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264280" y="8001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4720" y="8920080"/>
            <a:ext cx="3130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019920" y="67118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14400" y="3581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81440" y="8902800"/>
            <a:ext cx="3976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60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1240" y="385920"/>
            <a:ext cx="56678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OBLIGATE IN THE MONTH SERVICES ARE RECEIVED, WHETHER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 NO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440" y="2443320"/>
            <a:ext cx="6422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 100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MAN                DOCUMENT        VOUCHER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HRS EOR  APC  ODC  NUMBER          NUMBER  AMOUNT  PAID  IBOP I   DEOBS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392 1100 DPA6  2   CPA01CA6103364          2791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   1200 DPA6  1   CPA01CA6103364             9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80" y="852804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9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04120" y="385920"/>
            <a:ext cx="443340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DELIVERY ORDER - OBLIGATE UPON ISSU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00160" y="244332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 *     25CZ  L101    2  W23DFB*3530001       83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520" y="852804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6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4680" y="81000"/>
            <a:ext cx="6772320" cy="900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496     DAFI01 ** D 1500      23 DEC **       PRC 3406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DEC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WRIGHT-BACHMAN CONSTRUCTION, INC.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7980 N. MICHIGAN RD.                                 2/10,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ENGINEER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00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78.Z0-25CZ W23DFB*3530001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ROOFS - BLDG 555 AND 556,     1 JOB                 832.00      $83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PERTY DISPOSAL INSIDE STORAGE ARE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832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   DIFF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INSPECTED [ ]RECEVED [ ]ACCEPTED,CONFORMS                                 INITIALS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/S/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[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29 DEC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480" y="7086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06880" y="7238880"/>
            <a:ext cx="20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264280" y="7924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264280" y="8229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06880" y="7620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4720" y="8920080"/>
            <a:ext cx="3130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019920" y="6711840"/>
            <a:ext cx="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257800" y="73915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257800" y="76201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81440" y="8902800"/>
            <a:ext cx="3976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62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356400" y="919080"/>
            <a:ext cx="450216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DELIVERY ORDER - OBLIGATE UPON ISSU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    *   25CZ   L101    2      W23DFB*3530001            83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880" y="852804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6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4680" y="81000"/>
            <a:ext cx="6772320" cy="900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496     DAFI01 ** D 1500      23 DEC **       PRC 3406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DEC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WRIGHT-BACHMAN CONSTRUCTION, INC.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7980 N. MICHIGAN RD.                                 2/10,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ENGINEER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00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78.Z0-25CZ W23DFB*3530001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ROOFS - BLDG 555 AND 556,     1 JOB                 832.00      $83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PERTY DISPOSAL INSIDE STORAGE ARE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832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        (16.64)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INSPECTED [X]RECEVED [X]ACCEPTED,CONFORMS                  226511         INITIALS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/S/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[]FINAL    FT STEWART,GA          $815.36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31314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X]COMPLETE    ADSN: 6348             6785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DEC*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/S/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[]PARTIAL       30 DEC **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29 DEC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480" y="69343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114800" y="69343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200400" y="6934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289320" y="72388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264280" y="7924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264280" y="76201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206880" y="7620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4720" y="8920080"/>
            <a:ext cx="3130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19920" y="6711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57400" y="671184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881440" y="8902800"/>
            <a:ext cx="3976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64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257800" y="6781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25780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257800" y="8229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38240" y="385920"/>
            <a:ext cx="671976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ADJUST PROMPTL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9080" y="2513160"/>
            <a:ext cx="6628320" cy="420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 25CZ  L101   2   W23DFB*3530001  226511   F   815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    BLOCK NUMBER 100        SIC: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DOCUMENT       L                     F       OBS/   CASH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EOR  APC  ODC  NUMBER         I  AMOUNT    NAME     C       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   *   25CZ  L101  2   W23DFB*3530001    1664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8520" y="85345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6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01240" y="385920"/>
            <a:ext cx="56678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OBLIGATE IN THE MONTH SERVICES ARE RECEIVED, WHETHER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 NO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0160" y="2443320"/>
            <a:ext cx="6216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100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MAN                DOCUMENT       VOUCHER        #EMP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HRS EOR   APC  ODC NUMBER         NUMBER  AMOUNT PAID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150 1100  NCHA  2  MOD**C93120001         1350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1200  NCHA  1  MOD**C93120001          15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44476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11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1240" y="385920"/>
            <a:ext cx="56678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OBLIGATE IN THE MONTH SERVICES ARE RECEIVED, WHETHER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 NOT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OBLIGATION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9800" y="2443320"/>
            <a:ext cx="63536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100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MAN                DOCUMENT        VOUCHER          #EMP      F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HRS  EOR  APC  ODC NUMBER          NUMBER  AMOUNT   PAID IBOP I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150- 1100  NCHA  2  MODEST*3120001           1350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 1200  NCHA  1  MODEST*3120001            150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20" y="852804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1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1000" y="74520"/>
            <a:ext cx="6684840" cy="956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 JOHN D.  256-54-9701                CPT   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COMPTROLLER         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ETING FOR FUNDING RESERVE CENT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V CHICAGO, 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V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46.00             $   35.00        $  4.00          $  185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:This Document is a Commitment document since 20,21,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2 are not filled in. Commit and Q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/N103 S09076  $ 35.00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/N103 S09076  $ 150.00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080" y="38098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520" y="861048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14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64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T CODED, NO TO # - COMMITMEN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L                 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  I  AMOUNT  NAME          C   DEOBS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  _____  ________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__________ ___  _____  ________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5105520"/>
            <a:ext cx="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1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6:46:02Z</dcterms:created>
  <dc:creator>Soldier Support Institute</dc:creator>
  <dc:description/>
  <dc:language>en-US</dc:language>
  <cp:lastModifiedBy>Jay DeShazo</cp:lastModifiedBy>
  <cp:lastPrinted>2002-01-22T15:59:05Z</cp:lastPrinted>
  <dcterms:modified xsi:type="dcterms:W3CDTF">2004-09-14T15:31:52Z</dcterms:modified>
  <cp:revision>29</cp:revision>
  <dc:subject/>
  <dc:title>No Slide Title</dc:title>
</cp:coreProperties>
</file>